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4EFF5-08E8-4D24-B274-8C8839321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66CFC-0B55-4024-B303-CBB9AB8B0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91339-6221-4CDE-81FB-3DFFCDA3B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95328-C43E-43FA-8BF3-825D0B5CA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25408-A9F2-44E9-A14B-0B5BD452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9C57-5075-47DD-9B69-91D82A4A9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42CD6-44F7-48D4-8206-39B797419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D077-8D26-4975-ACAD-3A640F0D6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B6DAC-0C63-4ABF-8A08-40E24EF92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B1AAB-B951-429D-B5FF-CC3AB8D0A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28B0-4CC2-4AE2-8047-17D8A6DCB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243D-8279-4FDA-BF10-77F4A4CFE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D2BB-64C0-46EF-A567-5843B59358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Astro_Boy_(character)"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ek 9</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Robot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raem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ildren's manga (later a TV-series) about a boy named Nobi Nobita who is so unlucky, weak and lazy that his descendants had to send the family robot back in time to help him ou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at robot is Doraemon (where the "Dora" is presumably based on the word "dora-neko," or stray cat), and his four-dimensional pocket produces any number of futuristic gadgets and devices meant to help Nobita become something other than a complete failure in adulthoo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ough smart and caring, Doraemon has his own foibles, and his partnership with Nobita produces both triumphs and disaster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Robo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pan's political and economic emphasis on advanced technologies also depended on the societal structure to support such developmen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Japanese blue-collar working class has always been small, never constituting more than a third of the work-force, so a working-class identity like that in the West did not devel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panese industrial paternalism and lifetime employment policies assured that workers would not lose their jobs as a result of workplace automation, but would be given work elsewhere in the firm.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le protecting the male worker, the social structure of Japan supported the techno-nationalist dream at the expense of certain parts of the population, particularly women and the illegal foreign workforce, which could be hired and fired at will and bore the brunt of economic fluctuation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Robo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ary to the US, the introduction of robots into the industrial workplace did not destabilize the workforce because robots were proposed as an alternative to immigrant workers, who were seen as a threat to Japanese society and “the most discussed social problem in the late 1980s and 1990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apanese women, on the other hand, were reconstituted as conspicuous consumers, the linchpin of the national economy and prosperity, in addition to their role as an invisible domestic workforce supporting the </a:t>
            </a:r>
            <a:r>
              <a:rPr b="0" i="1" lang="en-US" sz="2700" spc="-1" strike="noStrike">
                <a:solidFill>
                  <a:srgbClr val="000000"/>
                </a:solidFill>
                <a:latin typeface="Calibri"/>
              </a:rPr>
              <a:t>sarariman </a:t>
            </a:r>
            <a:r>
              <a:rPr b="0" lang="en-US" sz="2700" spc="-1" strike="noStrike">
                <a:solidFill>
                  <a:srgbClr val="000000"/>
                </a:solidFill>
                <a:latin typeface="Calibri"/>
              </a:rPr>
              <a:t>(white-collar work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Robot Powerhous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apan is already an industrial robot powerhous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370,000 robots worked at factories across Japan in 2005, about 40 percent of the global tot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32 robots for every 1,000 Japanese manufacturing employe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st of machinery is going down, while labor costs are ris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jection that robots could even replace low-cost workers at small firms, greatly boosting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panese Trade Ministry Projections</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07 national technology roadmap by the Trade Ministry calls for 1 million industrial robots to be installed throughout the country by 2025.</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ingle robot can replace about 10 employees, the roadmap assumes — meaning Japan's future million-robot army of workers could take the place of 10 million humans. 15 percent of the current work for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obots are the cornerstone of Japan's international competitiveness," Shunichi Uchiyama, the Trade Ministry's chief of manufacturing industry policy, said at a recent seminar. "We expect robotics technology to enter even more sectors going forwar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ld Robo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ers at Osaka University are developing a robot to better understand child develop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hild-Robot with Biomimetic Body" is designed to mimic the motions of a toddle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onds to sounds, and sensors in its eyes can see and react to people. It wiggles, changes facial expressions, and makes gurgling soun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team leader, Minoru Asada, is working on artificial intelligence software that would allow the child to "learn" as it progress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ight now, it only goes, 'Ah, ah.' But as we develop its learning function, we hope it can start saying more complex sentences and moving on its own wil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Generation of Robot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apanese vision: next-generation robots need to be able to learn and develop themselv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Hiroshi Ishiguro, also at Osaka University, the key is to make robots that look like human beings. His Geminoid robot looks uncannily like himself — down to the black, wiry hair and slight t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end, we don't want to interact with machines or computers. We want to interact with technology in a human way so it's natural and valid to try to make robots look like us," he sai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e day, they will live among us," Ishiguro said. "Then you'd have to ask me: 'Are you human? Or a robo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ots in Everyday Lif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robots as human resour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bots &amp; people living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ner robots = humano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2" descr="C:\Documents and Settings\benick\My Documents\My Pictures\ft_robot_med_inline.jpg"/>
          <p:cNvPicPr/>
          <p:nvPr/>
        </p:nvPicPr>
        <p:blipFill>
          <a:blip r:embed="rId1"/>
          <a:stretch/>
        </p:blipFill>
        <p:spPr>
          <a:xfrm>
            <a:off x="6357960" y="3071880"/>
            <a:ext cx="1619280" cy="288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ots as Relational Artifact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apan's evolving imaginary of a “robot culture” emphasizes technologies that are no longer just meant to do things </a:t>
            </a:r>
            <a:r>
              <a:rPr b="0" i="1" lang="en-US" sz="2700" spc="-1" strike="noStrike">
                <a:solidFill>
                  <a:srgbClr val="000000"/>
                </a:solidFill>
                <a:latin typeface="Calibri"/>
              </a:rPr>
              <a:t>for </a:t>
            </a:r>
            <a:r>
              <a:rPr b="0" lang="en-US" sz="2700" spc="-1" strike="noStrike">
                <a:solidFill>
                  <a:srgbClr val="000000"/>
                </a:solidFill>
                <a:latin typeface="Calibri"/>
              </a:rPr>
              <a:t>humans, but to also do things </a:t>
            </a:r>
            <a:r>
              <a:rPr b="0" i="1" lang="en-US" sz="2700" spc="-1" strike="noStrike">
                <a:solidFill>
                  <a:srgbClr val="000000"/>
                </a:solidFill>
                <a:latin typeface="Calibri"/>
              </a:rPr>
              <a:t>to </a:t>
            </a:r>
            <a:r>
              <a:rPr b="0" lang="en-US" sz="2700" spc="-1" strike="noStrike">
                <a:solidFill>
                  <a:srgbClr val="000000"/>
                </a:solidFill>
                <a:latin typeface="Calibri"/>
              </a:rPr>
              <a:t>and </a:t>
            </a:r>
            <a:r>
              <a:rPr b="0" i="1" lang="en-US" sz="2700" spc="-1" strike="noStrike">
                <a:solidFill>
                  <a:srgbClr val="000000"/>
                </a:solidFill>
                <a:latin typeface="Calibri"/>
              </a:rPr>
              <a:t>with</a:t>
            </a:r>
            <a:r>
              <a:rPr b="0" lang="en-US" sz="2700" spc="-1" strike="noStrike">
                <a:solidFill>
                  <a:srgbClr val="000000"/>
                </a:solidFill>
                <a:latin typeface="Calibri"/>
              </a:rPr>
              <a:t> huma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obots as social entities are expected to fulfill new roles as companions, caretakers, “natural” interaction partners, and mediators between humans and the increasingly complex socio-technical environments we live i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relational” artifacts enable people to project and reflect on their ideas of self and to interact with technology in qualitatively different way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ot Kingdom</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apan became known as the “robot kingdom”  first through its domination of the industrial robot marke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w recognized for a consumer culture that is singularly adaptable and accepting of robots and other high tech consumer product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conceptual differentiation between Japanese spirit (</a:t>
            </a:r>
            <a:r>
              <a:rPr b="0" i="1" lang="en-US" sz="2700" spc="-1" strike="noStrike">
                <a:solidFill>
                  <a:srgbClr val="000000"/>
                </a:solidFill>
                <a:latin typeface="Calibri"/>
              </a:rPr>
              <a:t>wakon</a:t>
            </a:r>
            <a:r>
              <a:rPr b="0" lang="en-US" sz="2700" spc="-1" strike="noStrike">
                <a:solidFill>
                  <a:srgbClr val="000000"/>
                </a:solidFill>
                <a:latin typeface="Calibri"/>
              </a:rPr>
              <a:t>) and the borrowed Western technology has allowed for the introduction of material aspects of Western culture into the Japanese market, while distancing the realms of spirituality, morality and culture from foreign influence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chine Loving Cultur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pecial affinity of the Japanese towards robotic technologies is related to a history of traditional crafts such as </a:t>
            </a:r>
            <a:r>
              <a:rPr b="0" i="1" lang="en-US" sz="3000" spc="-1" strike="noStrike">
                <a:solidFill>
                  <a:srgbClr val="000000"/>
                </a:solidFill>
                <a:latin typeface="Calibri"/>
              </a:rPr>
              <a:t>karakuri ningyo </a:t>
            </a:r>
            <a:r>
              <a:rPr b="0" lang="en-US" sz="3000" spc="-1" strike="noStrike">
                <a:solidFill>
                  <a:srgbClr val="000000"/>
                </a:solidFill>
                <a:latin typeface="Calibri"/>
              </a:rPr>
              <a:t>(automata), animistic Shinto beliefs and Buddhist teachings concerning the interconnectedness of all animate and inanimate being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bots are not only designed for utilitarian purposes, but to function “the same as flowers—something that speaks directly to the soul” </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se of Robot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e to the scarcity of its natural resources, technology was the only way Japan could add value to its manufactured produ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urning imported raw materials into high-tech manufactured goods for export became the widely accepted recipe for economic success after WWI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1980s, the Ministry of International Trade and Industry (MITI) subscribed to a policy of </a:t>
            </a:r>
            <a:r>
              <a:rPr b="0" i="1" lang="en-US" sz="2200" spc="-1" strike="noStrike">
                <a:solidFill>
                  <a:srgbClr val="000000"/>
                </a:solidFill>
                <a:latin typeface="Calibri"/>
              </a:rPr>
              <a:t>gijutsu rikkoku</a:t>
            </a:r>
            <a:r>
              <a:rPr b="0" lang="en-US" sz="2200" spc="-1" strike="noStrike">
                <a:solidFill>
                  <a:srgbClr val="000000"/>
                </a:solidFill>
                <a:latin typeface="Calibri"/>
              </a:rPr>
              <a:t>, or “technological nation-building”  which focused the growth of the nation on the research and development of original technologies that would be necessary for an “advanced information societ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 context of falling birthrates, a rapidly aging population, and environmental and energy problems, robots are seen as a way to create an affluent society with high quality of lif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tro Bo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stro Boy</a:t>
            </a:r>
            <a:r>
              <a:rPr b="0" lang="en-US" sz="2700" spc="-1" strike="noStrike">
                <a:solidFill>
                  <a:srgbClr val="000000"/>
                </a:solidFill>
                <a:latin typeface="Calibri"/>
              </a:rPr>
              <a:t> (</a:t>
            </a:r>
            <a:r>
              <a:rPr b="0" lang="ja-JP" sz="2700" spc="-1" strike="noStrike">
                <a:solidFill>
                  <a:srgbClr val="000000"/>
                </a:solidFill>
                <a:latin typeface="Calibri"/>
                <a:ea typeface="ＭＳ Ｐゴシック"/>
              </a:rPr>
              <a:t>鉄腕アトム </a:t>
            </a:r>
            <a:r>
              <a:rPr b="0" lang="en-US" sz="2700" spc="-1" strike="noStrike">
                <a:solidFill>
                  <a:srgbClr val="000000"/>
                </a:solidFill>
                <a:latin typeface="Calibri"/>
                <a:ea typeface="ＭＳ Ｐゴシック"/>
              </a:rPr>
              <a:t>,</a:t>
            </a:r>
            <a:r>
              <a:rPr b="0" i="1" lang="en-US" sz="2700" spc="-1" strike="noStrike">
                <a:solidFill>
                  <a:srgbClr val="000000"/>
                </a:solidFill>
                <a:latin typeface="Calibri"/>
              </a:rPr>
              <a:t>Tetsuwan Atomu</a:t>
            </a:r>
            <a:r>
              <a:rPr b="0" i="1" lang="en-US" sz="2700" spc="-1" strike="noStrike" u="sng" baseline="30000">
                <a:solidFill>
                  <a:srgbClr val="0000ff"/>
                </a:solidFill>
                <a:uFillTx/>
                <a:latin typeface="Calibri"/>
                <a:hlinkClick r:id="rId1"/>
              </a:rPr>
              <a:t>?</a:t>
            </a:r>
            <a:r>
              <a:rPr b="0" lang="en-US" sz="2700" spc="-1" strike="noStrike">
                <a:solidFill>
                  <a:srgbClr val="000000"/>
                </a:solidFill>
                <a:latin typeface="Calibri"/>
              </a:rPr>
              <a:t>, lit. "Mighty Atom") is a Japanese manga series and television program first broadcast in Japan from 1963 to 1966.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ory follows the adventures of a fictional robot named Astro Bo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stro Boy</a:t>
            </a:r>
            <a:r>
              <a:rPr b="0" lang="en-US" sz="2700" spc="-1" strike="noStrike">
                <a:solidFill>
                  <a:srgbClr val="000000"/>
                </a:solidFill>
                <a:latin typeface="Calibri"/>
              </a:rPr>
              <a:t> is the first Japanese television series that embodied the aesthetic that later became familiarized as anime.</a:t>
            </a:r>
            <a:r>
              <a:rPr b="0" lang="en-US" sz="2700" spc="-1" strike="noStrike" baseline="30000">
                <a:solidFill>
                  <a:srgbClr val="000000"/>
                </a:solidFill>
                <a:latin typeface="Calibri"/>
              </a:rPr>
              <a:t>[2]</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originated as a manga in 1952 by Osamu Tezuka, who is often reputed as the "god of manga".</a:t>
            </a:r>
            <a:r>
              <a:rPr b="0" lang="en-US" sz="2700" spc="-1" strike="noStrike" baseline="30000">
                <a:solidFill>
                  <a:srgbClr val="000000"/>
                </a:solidFill>
                <a:latin typeface="Calibri"/>
              </a:rPr>
              <a:t>[3]</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tro Boy</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stro Boy</a:t>
            </a:r>
            <a:r>
              <a:rPr b="0" lang="en-US" sz="2700" spc="-1" strike="noStrike">
                <a:solidFill>
                  <a:srgbClr val="000000"/>
                </a:solidFill>
                <a:latin typeface="Calibri"/>
              </a:rPr>
              <a:t> is a science fiction series set in a futuristic world wherein androids co-exist with humans. Its focus is on the adventures of the titular "Astro Boy" (sometimes called simply "Astro"), a powerful robot created by the head of the Ministry of Science, Doctor Tenma, to replace his son Tobio, who died in a car accid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tro then is shown fighting crime, evil, and injustice. Most of his enemies were robot-hating humans, robots gone berserk, or alien invader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most every story included a battle involving Astro and other robo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raem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famous manga character in all of Japan is Doraemon  - equivalent of Mickey Mouse in the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oraemon and his namesake series symbolize to many the foibles and adventures of childhoo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4:50:04Z</dcterms:created>
  <dc:creator>Sheridan</dc:creator>
  <dc:description/>
  <dc:language>en-US</dc:language>
  <cp:lastModifiedBy>Sheridan</cp:lastModifiedBy>
  <dcterms:modified xsi:type="dcterms:W3CDTF">2009-03-31T17:21:01Z</dcterms:modified>
  <cp:revision>16</cp:revision>
  <dc:subject/>
  <dc:title>Week 9</dc:title>
</cp:coreProperties>
</file>